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7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drumroll.wav" ContentType="audio/x-wav"/>
  <Override PartName="/ppt/media/camera.wav" ContentType="audio/x-wav"/>
  <Override PartName="/ppt/media/explode.wav" ContentType="audio/x-wav"/>
  <Override PartName="/ppt/media/glass.wav" ContentType="audio/x-wav"/>
  <Override PartName="/ppt/media/applause.wav" ContentType="audio/x-wav"/>
  <Override PartName="/ppt/media/image5.wmf" ContentType="image/x-wmf"/>
  <Override PartName="/ppt/media/image6.wmf" ContentType="image/x-wmf"/>
  <Override PartName="/ppt/media/driveby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EFF-C782-4577-91D0-D86E9BA64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CB51-2A2E-43E5-85A8-1739DC03BD2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653D-2A9B-47FE-A369-65183CB86E3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F48A-496E-444A-9D06-6D4105D863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6603-A81F-40B9-8768-D4138DF1920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9996-AFF1-40AB-AAC1-A1A573C60CD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2EE6-5B22-4BCA-8B44-4264C0E0AA4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052E-6CE4-4532-8501-9CD80BD463B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B754-EE8C-403A-9007-9437513FE9C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C69-4D8B-4365-BB29-BCA4AAD3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F08-4AD9-4C2D-84D7-2C2DD479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E36-35FF-4A76-8C41-B453616E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4EB-35D4-45E1-AF15-3ADC1CEE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13F5-FD6B-4D00-8358-2BA17A60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6E72-AA77-4892-BB97-F090639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A9EA-234B-44D5-A075-95616447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60C2-E145-4022-9086-B7D13607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A11F-7156-44F4-9D09-493BD352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82B-CF46-4DBD-9700-01EE9603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4E3-D544-4F97-BD80-5AF6ECD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A4D-416E-4077-B6F8-38A33C77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19DD-59F3-4E41-B2EB-B933FB5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1790-D439-4290-B925-B041F61E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CA8B-28ED-4558-B046-E0D69B9E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5F4-ED98-43EB-80B7-DB32748D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B1B-C377-4165-90C3-B28A0B5F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55D-295F-43AF-8DA4-D174F727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D23-D435-4A08-9566-1BA918E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948-C137-42E9-9860-6CA12748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61D-B8E1-4F8B-97F8-955D204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CF9-97B8-473D-9C5B-502D779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770-1AB0-4CBD-89E6-6AA5EC25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B14-D451-4E5C-BC7B-EE3803F6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9C04-305C-400A-A2A5-A6E23C1BD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159A-757E-4367-BF76-0B94CFE5264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arruda@lcdoe.org" TargetMode="External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Balloon XBd BT"/>
              </a:rPr>
              <a:t>ESL, Now What?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L Teaching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e and Effective Pract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Georgia Arru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PP1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Lincoln County Department of 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September 13, 20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garruda@lcdoe.or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es the research say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inority students do not have to be fluent in oral English before they engage in reading practic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affective filter must be lowered in order to effectively learn as second languag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prehension precedes produ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portant benefits of supporting the English language learner is applied when integration of students culture is evid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gh-Quality instructional strategies are needed to meet the needs of diverse learn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arning and instructional considerations must be applied when teaching an English language lear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rategies applied within the classroom are crucial for educational success for the English language lear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Keys to Succes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intain accurate student portfolios to monitor student progres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lign curriculum to meet both ESL and State academic standar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dify curriculum as needed to promote student succe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pply acceptable accommodations for test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udent culture should be reflected within the classro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327636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yths and Misconception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mmigrant students are not entitled to ESL services – False, actually all students regardless of their immigrant status are entitle to a free public edu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unding for ESL services must be supplied by each school individually – False, at the state level there is Basic Education Program (BEP) funding designed for districts with identified ELL stud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y teacher or teachers aide may provide the services needed for ELL students – False, in Tennessee a teacher must have and ESL endorsement or on an approved waiver to provide instruc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arents and students can waive ESL services at any time – False, no student or parent can deny ESL services until the student is the age of 18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You can place a ELL student in Special Education until they have gained fluency in English – False, students can not be place in Special Education classes unless they have been in a traditional classroom for a minimum of two consecutive years and have been tested and met Special Education requirement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trategies for Teacher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active lessons with hands-on activities and cooperative learn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couragement of creativity and discover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rsatility and flexibil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hancement and support of the mainstream curricul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pportunities for all students to feel successfu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gration of language skills, thinking skills, and content knowledg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8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trategies for Studen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it in the front of the classro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rontload vocabul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operative learning activi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eer tuto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tended t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odification of curriculum outcomes outlin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ccess to students particular learning sty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vide illustrations when need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upplementary books (translation dictionar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Use graphic organiz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extbooks on tap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3505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arents of ESL Studen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 of ELL students need help t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derstand how U.S. school systems work in gene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derstand how their local school district and schools oper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w what is expected of them by school and district personn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rticip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5410080" y="175248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ational Association for Bilingual Education (NABE) http://www.nabe.org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ational Clearinghouse for English Language Acquisition &amp; Language Instruction Educational Programs (NCELA) http://www.ncela.gwu.ed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eachers of English to Speakers of Other Languages (TESOL) http://www.tesol.or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ational Center for ESL Literacy Education (NCLE) http://www.cal.org/n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 ESL Links http://esl.net/eslres.htm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sources for Language Teacher and Learners http://www.fredriley.org.uk/call/langsite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SL Lesson Plans and Resources http://www.csun.edu/~hcedu013/eslplans.htm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1:35:11Z</dcterms:created>
  <dc:creator>Registered Copy</dc:creator>
  <dc:description/>
  <dc:language>en-US</dc:language>
  <cp:lastModifiedBy>Georgia Arruda</cp:lastModifiedBy>
  <dcterms:modified xsi:type="dcterms:W3CDTF">2010-09-14T03:08:25Z</dcterms:modified>
  <cp:revision>15</cp:revision>
  <dc:subject/>
  <dc:title>ESL, Now What?</dc:title>
</cp:coreProperties>
</file>